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7.jpeg" ContentType="image/jpeg"/>
  <Override PartName="/ppt/media/image6.wmf" ContentType="image/x-wmf"/>
  <Override PartName="/ppt/media/image10.wmf" ContentType="image/x-wmf"/>
  <Override PartName="/ppt/media/image5.wmf" ContentType="image/x-wmf"/>
  <Override PartName="/ppt/media/image23.wmf" ContentType="image/x-wmf"/>
  <Override PartName="/ppt/media/image22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3.jpeg" ContentType="image/jpeg"/>
  <Override PartName="/ppt/media/image16.wmf" ContentType="image/x-wmf"/>
  <Override PartName="/ppt/media/image15.wmf" ContentType="image/x-wmf"/>
  <Override PartName="/ppt/media/image14.wmf" ContentType="image/x-wmf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12193-A3B9-4944-BDBE-B69B60774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8C9F0-3538-4513-8800-F96FDB615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28A91-DD93-4212-A049-B67EA0AB0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8FFBD-B702-4C7A-A612-578EF2934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B2D35-B935-4E27-8585-32458A4EE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EF1C8-CD56-4173-856C-2A0B0D1CB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C0901-130B-45E5-B0F2-D1DAC0893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FA54C-7233-4D64-B64D-8A79843CB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967DE-F160-4202-9FF2-F4C763432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1261C-9586-4713-B56C-279F7B285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9438A-B2B9-4AA8-89E9-15B0E18F7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1617E-636C-4522-B638-6E5A59C51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AFA7B-D595-4DC7-AC69-A4886C8839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>
            <a:lum bright="-36000"/>
          </a:blip>
          <a:srcRect l="0" t="0" r="4769" b="0"/>
          <a:stretch/>
        </p:blipFill>
        <p:spPr>
          <a:xfrm>
            <a:off x="7924680" y="6095880"/>
            <a:ext cx="457200" cy="454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04920" y="1752480"/>
            <a:ext cx="8686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Southeastern European Economies:  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utlook, Risks, and Policy Priorities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143000" y="3809520"/>
            <a:ext cx="693432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manuel van der Mensbrugg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cial Representative of the IMF to the E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nuary 2008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894360" y="0"/>
            <a:ext cx="2249640" cy="16192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367000" cy="159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allout of financial turbulence is a key downside ris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143000" y="1219320"/>
            <a:ext cx="6545160" cy="48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73152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ancial turbulence has raised borrowing costs for emerging mark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685800" y="990720"/>
            <a:ext cx="7623000" cy="54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urbulence could reduce demand for SEE exports from a less confident Eur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838080" y="1066680"/>
            <a:ext cx="7248600" cy="51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financial turbulence may cause foreign banks to tighten credit supp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57200" y="914400"/>
            <a:ext cx="8163000" cy="53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actors Making SEE more Resilient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pid and deep financial integ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erging Europe remains an attractive region for inves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ual and prospective EU membership anchors policies and spurs institutional re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large part of capital inflows is FD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ill, a happy ending is not guarante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balances may result in capital flow revers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lems in one country may spread to another through cross-border contag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ctations and risks assessments by borrowers and lenders may prove wro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bt financing is becoming increasingly comm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U accession is no panac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uarding against the downside risks and secure continued successful convergenc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etary policy generally needs tightening to contain inflationary press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scal tightening needed to cool overheating economies with large current account defic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ancial supervisors need to stay on the ball and ensure strong financial frame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oaden structural reforms to improve investment climate, flexibility of markets, and reap benefits from international economic inte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5345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scal surpluses will dampen excess demand and provide buffers against sho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533520" y="990720"/>
            <a:ext cx="7742160" cy="52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scal Re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51920" y="1294920"/>
            <a:ext cx="86108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 targeting and efficiency of spen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rmonize state aid to EU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nalize public invest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k public sector wages to produc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in buffers and prepare contingency pl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y the tax system and improve tax administration/reduce tax bur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 fiscal transpa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feguard long-term fiscal sustain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6477120" y="3581280"/>
            <a:ext cx="266688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trong banking sector is key to withstand turbul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1676520"/>
            <a:ext cx="914400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utheastern Europe has been growing rapidly, reflecting convergence with the We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57200" y="1066680"/>
            <a:ext cx="787068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ancial systems need to be further developed to contribute to resilience and effici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469800" y="914400"/>
            <a:ext cx="8674200" cy="57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1760" y="151920"/>
            <a:ext cx="7924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al reforms are needed to continue the transition and support converg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69800" y="762120"/>
            <a:ext cx="867420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ing the business environment more competi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228600" y="762120"/>
            <a:ext cx="8674200" cy="55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ing corruption will be beneficial for inves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28600" y="838080"/>
            <a:ext cx="86742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ional trade integration has upward potent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228600" y="762120"/>
            <a:ext cx="8674200" cy="59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, though not all, SEE countries are also successfully containing inf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533520" y="1382760"/>
            <a:ext cx="8007120" cy="547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38188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 challenge: continue to catch up rapid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80880" y="914400"/>
            <a:ext cx="8007480" cy="547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520" y="274320"/>
            <a:ext cx="85345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bring more jobs to the formal economy so that benefits are widely recei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33520" y="1219320"/>
            <a:ext cx="787068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rnal account imbalances are a conce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8007480" cy="547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61048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high external debt creates vulnerabi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304920" y="914400"/>
            <a:ext cx="8673840" cy="570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ar-term outlook for SEE remains favor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0402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971800" y="3581280"/>
            <a:ext cx="914400" cy="1600200"/>
          </a:xfrm>
          <a:prstGeom prst="rect">
            <a:avLst/>
          </a:prstGeom>
          <a:solidFill>
            <a:srgbClr val="ff00ff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3581280"/>
            <a:ext cx="914400" cy="1600200"/>
          </a:xfrm>
          <a:prstGeom prst="rect">
            <a:avLst/>
          </a:prstGeom>
          <a:solidFill>
            <a:srgbClr val="ff00ff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72200" y="3581280"/>
            <a:ext cx="914400" cy="1600200"/>
          </a:xfrm>
          <a:prstGeom prst="rect">
            <a:avLst/>
          </a:prstGeom>
          <a:solidFill>
            <a:srgbClr val="ff00ff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848720" y="3581280"/>
            <a:ext cx="914400" cy="1600200"/>
          </a:xfrm>
          <a:prstGeom prst="rect">
            <a:avLst/>
          </a:prstGeom>
          <a:solidFill>
            <a:srgbClr val="ff00ff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slowing seems likely further ahead as global and European growth softens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35080" y="914400"/>
            <a:ext cx="8673840" cy="548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20T13:06:32Z</dcterms:created>
  <dc:creator>avamvakidis</dc:creator>
  <dc:description/>
  <dc:language>en-US</dc:language>
  <cp:lastModifiedBy>evandermensbrugghe</cp:lastModifiedBy>
  <dcterms:modified xsi:type="dcterms:W3CDTF">2008-01-22T15:18:42Z</dcterms:modified>
  <cp:revision>870</cp:revision>
  <dc:subject/>
  <dc:title>The Southeastern European Economies:  Vulnerabilities, Challenges and  Opportunities </dc:title>
</cp:coreProperties>
</file>